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4CF-B623-45DA-B8CC-5BE1AF3C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760-1FB0-403D-ADB8-A99EA8AE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C2228-835F-411C-AC2C-F1F29B8D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8B720-3AD6-4349-8EAF-F02F0E8B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A0758-A91A-4740-8FD6-4047154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EF598-D169-40D5-A5A0-287D55F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E0FE8-00EE-4C6C-A38F-90364E0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4D5D-7DDB-46F5-82FE-5066FA9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619AE-8756-4454-8038-8BB9A09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20CAF-1F81-4C94-A5C3-F0A55A02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42A11-3630-48D9-A3C1-13422122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0A266-8422-4815-82C5-7CE9A598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49F-73CF-4A9C-A83F-E3115B09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FF467-DCD6-4A26-A429-304F6DB8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3E463-F9C8-487F-8463-D6C3FD9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37CEC-653F-4AAE-900E-DD4758D8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09872-29AB-4C52-9419-B6C3E344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A3DA6-FA9D-431A-960E-C8116329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C8DBD-A002-4BB5-A32C-396FC7D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22FE5-EE40-4614-B8CC-5EA02D7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1C313-72CA-46E6-AE7F-487840B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9159C-85DF-4BB7-BB0D-C128B86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8E12F-D230-44A1-A6D3-B4EF635B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574-DCD0-4CFE-9477-5F9E404E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8B965-7440-4943-9367-3D5CBE51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8699D-BD57-45FA-BB8B-810C4D8F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E9FA7-7FA9-4A3E-910C-178AC01A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7F3FE-D2D4-438F-929F-FA50BBF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B8105-CB88-44AC-8895-6FE15141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A95CB-BE77-458A-913C-7837C90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0A918-C297-4073-92F1-33B73975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0670-AA4B-44F5-A5CC-AF5868B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94B37-3EDB-4469-8EEB-1E4343A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7E8E3-0F7B-4134-A9C1-0D8178D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FB72-7AD1-49D2-836A-46684B52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14054-2E72-42CD-955A-DB2BA51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097AA-4AA5-45E0-93F2-80760AD7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D3DA-2B0B-458A-9D11-55ED643F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A212-3B6F-4481-ABE9-8F6A7E84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B7A2D-442C-4A0F-9E8A-DB4FFE4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39291-1112-4851-8F9F-B8BE5EE2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166B6-A7E8-45ED-B060-D15773E0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F072F-0DB6-4DCB-A822-B5AD8EC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C4428-F519-48D9-823C-6651D5D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53E1F-64F1-4FE9-921E-148DD69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41D6-C0E2-4321-B647-1386AD25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0BFDF-66CE-48B6-94E0-A7CA114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ADD03-8C27-43C5-80F5-1B99521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57B96-7E68-4D75-A2AB-BEBD6430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11C02-8E43-47AA-BFD4-1FCB42C1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B14A6-E3B3-45FD-B903-58CEAA0D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446F4-76BF-43A7-81FA-0DA7BABC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DE7D3-A563-4B25-A494-A89D114B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2B734-FD94-4B83-84C9-DB3C382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DED6D-3F6D-4E7F-96F3-DEF4C156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6878A-0E3C-44FB-AEA6-0C677BC2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4465-DD7D-49F9-9A5A-A89D7C7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88BDB-44B2-40EE-8BF4-7E141F4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71A17-3A1B-4FB3-8455-CAA65E0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AC935-9278-4952-8E38-35BE06D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FF333-006B-4E4A-AFED-B1D4ACC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3C01B-0228-4A68-8CE1-C25AE2F3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09B70-BE72-4CEA-BE15-003893F0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977A7-0E69-466A-A13F-06707055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3AD76-9FEB-4C53-A00C-AC393F0E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12688-863E-4974-AAFE-594F846F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23CD6-4119-4FEA-80B8-38E2F9B8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BC55-0544-4163-9A6C-25CFE64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36D1F-95C3-40BC-A401-0AEFB65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F65D3-6FE1-4C39-83C8-76B8A193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2D451-59AF-4152-821C-810398FC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617EA-077E-4FC1-9D12-5B1551B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DB8CF-30EC-4361-A563-0AEF2DA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3FBB3-343B-4236-A711-46CABB2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3FC21-A6BB-463F-A35F-A1D19D3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76758-2B4D-4ECE-B2A5-776EA319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5963D-3921-4231-98F6-9122EEDD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9CBF6-6DCE-4CB5-9BF3-0424A251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ED0-0CB2-4407-A181-8613911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14EBE-C24C-47D2-A4C0-36FC706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CB539-70FE-4B58-A9CF-1DF535F9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C9D8C-C869-432E-81BA-03E33CB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5D6CB-1103-42D2-AE70-1AD6F7E3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A8B77-881C-434F-AEF3-3C6AEFCC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21026-7274-4CFF-BE0F-3B29EF9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BD4FA-B1D6-4CDA-8D27-EB7588DF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2DF32-1202-4603-BC53-E036BD5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A32B7-F179-46E7-A288-3276F99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A75D9-F656-4257-A22F-BACA1D1D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D94-CE10-4FA6-A9FD-FE47EA3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024B6-0FC3-470E-99EA-4CDFC3DB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85B1D-8668-44BE-9C61-6F335610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FCCA9-01E8-4731-85D3-23F8FA5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1CE20-382F-46EC-9532-B324E6B3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2821E-DD7D-4FAD-B285-22F5DED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67104-D3BE-4246-AE14-47F9A571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6467A-5A38-413E-8A5C-286FE94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86CAD-3B52-4869-AC7C-CAF36FA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00886-DCF4-4E80-AA15-0D852DD6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74C6B-EEEE-43F9-854C-4BCC3568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B0CC-0AF7-414E-B077-F08DC29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850AB-F6FA-4470-B85D-9B9C509D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BB78F-5F6D-46AF-81E7-9396DFEA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C7A61-1198-44AE-B48A-2BA22583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4F0E9-E88D-48ED-9CEB-E5261718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FEF14-D40A-461E-848A-05794C9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4C9D9-ADB1-40B7-813B-AE42569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C21A0-DC29-4B21-AA9F-ED5C2BB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75F0C-3109-4678-8C04-B757163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946E6-2598-412C-87B6-B3AD6296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8E3AC-1221-469B-994C-C37A914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56F-4F05-4C64-AE70-62540D8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7023-CD48-4697-AD00-24A4758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77F94-5EA4-4C51-9034-31A9340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3260E-DDD5-4572-A485-5395F0A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0159F-41A4-4A85-8748-F38F20D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EDE6B-704E-4F92-BFEB-9B4BB363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DC2FD-A0D3-4685-8C4C-0FA9B4DE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FC149-1015-47BF-99B7-0A1982CE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81166-B7F0-4914-BB82-C247801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F50B5-2522-452A-B71B-C9553E3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DAA2F-8E65-4A73-9CD2-EBA6FA0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10369-C352-47AB-90E3-1BC946B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9853-1C45-4ADB-9465-A7EBC6AE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6DBD4-C8F2-4B27-BD90-AC29D2E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5D24F-8A3F-467E-B2B9-0757F4E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F6C37-AABF-4404-92C7-267D475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4BC56-253D-4B90-98F2-05A61B48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8F052-02C1-4306-90A6-CBDAFC70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1FF2E-2CD8-4195-8B1E-4F6269FE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DB048-C95C-455A-B535-1F82084B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96FD4-E232-4081-A6FA-7D0CCF0E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416B2-F510-44CD-92A5-47DB0116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BCB38-70AB-4B2C-97FF-F5D68F39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C1EE-D961-4661-8D06-E74D787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AB971-3A8B-4C13-84BE-D3A0E7DD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C9A11-6E20-424E-A07F-8A05CC2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A44C0-8104-4208-9949-9EEC30B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0FF03-2BC6-4498-B6E7-A304040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56860-EF40-4228-B00D-00EE9F36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29A39-F233-4CE6-8252-2E627DE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5457C-0D34-45BF-A947-48C4A6A0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C0255-DB30-4359-B48B-55F9F5C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2B08D-6BCB-401F-991A-11CA80F7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52C28-BF66-4BA4-9B04-CDC57FA7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AB86-5E56-46CF-95CB-8CEF98EB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AD8FE-1968-40CE-8F68-D509C19E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D8FB2-461F-43AE-BA06-E84E15E2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8A2D9-BCDC-4ED0-A2A2-A22F00B3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D3C20-30D7-453E-9DE6-F1254CD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04CAD-D33F-466A-BCF2-378B2EB0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13383-0989-446F-B7AA-9D90C64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C5CBB-8FC5-4BD4-A2B6-907F1A80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CF4E0-D161-4B2F-B969-D059918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C6B18-0F42-4D4A-82FB-69D0ECE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D1F40-3E5F-4450-A4C7-61B7C68C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1AFB-1E4F-4C6A-A557-E24399A7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D3E8D-26BD-4E0F-A719-B3B7C021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B5B71-5557-4F2C-8C22-EFD6D81C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D3FA7-D636-463F-814F-B4529CF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DD28C-0385-4B52-B58D-6C2D5D85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89FB0-E099-47FB-8C26-C7E3A1A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F2B6FD-4B08-4E47-8D54-A956F606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73663-6C06-4471-A157-5C96497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A5D63-69EF-4EC7-9CC2-E3C40B7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25BAF-3B81-42AB-99EC-4F670BAB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E4F60-A78D-4B26-9050-362FEA8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9255-3ED4-415D-A226-CC6C20A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8D876-4F00-4685-8F0A-8D10583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91239-740D-4486-AD7E-8C515250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DEC39-90CE-49C4-B0A0-C2038D6E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9B3BA8-A5C6-4A9A-BC58-F4F7F439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B0861-5F85-4EE5-9245-40760AD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208C46-DC62-4393-9E8C-EAF0873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BFB937-03D3-45BF-B797-B135C0A4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B89456-ADCE-4CA7-BE05-529B5891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6CADCE-0CE8-4B65-B25E-C00BDF9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8C86F0-4410-42CB-867F-35A10F4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658A-D1BB-4D23-BD87-A235892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5A66A-508B-4F59-8AFA-BA9E8A1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9CA239-26B9-41D0-9314-321BC5C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6D9B48-E448-4DED-B6B7-0F18C7A5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3DF0CF-EBF2-43CA-9F4F-7FA02ABE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267456-A08E-49BA-AEBA-AA50687B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7B913-2C4A-4A0B-9F6A-B3A422CC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29BD4-B673-4286-AE5C-5A0CBC0D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A75EDD-40A0-43A9-8FB2-97DB6381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9123E-B9FB-4481-8C45-0846655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40FFC7-9FF4-4274-A7F9-5770434A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1807-95B1-4980-97BC-6B72B9C9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EA792-911F-4632-BE47-F727A68C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2BEF48-2446-4AAB-A3E4-B39F801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D7A172-9E79-481E-886D-0E10301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D986C-ADEF-4C78-B15A-69909CB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8AF81-429F-48CE-A238-6F5A4B17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085C5A-AA45-4198-AF5F-7852B7C2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98CF7-5583-4B9C-8CB4-6AD97C11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5AE3A9-D61F-43E1-B72F-2DD4A0B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852CBE-0DDB-4AD3-AE05-988087C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219C22-6B19-47C8-BE14-D90D6CC2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47F3-5677-4C46-A130-9FC2F1EB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24BC9F-82D6-4A97-B95B-45190427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8148F-20BA-4A23-9726-AA110D5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D24874-D3FB-4032-BCF8-5C79E20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12AF0E-99F6-40A1-8C94-AB43F46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9970D6-C276-4016-98F6-CD71003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253F0C-284C-411A-84DF-EB42B0D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487C91-FAF7-4D11-B94D-B38942C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031141-4527-40F4-814F-58E430F4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A3CC5E-EEB0-4F41-9236-0BDA15AF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D15342-02CF-4BEC-B6DF-8009446C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144C-6B58-4254-A251-71584828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A13818-57E3-4E71-AFEE-9DA2F6BA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D26F06-BC3A-4A42-A7DF-E1F4FC2A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BBCED4-0ED7-489C-9A5A-FC06E4E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A5558E-DB07-4A9D-A886-9ADBE1B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F7494D-A487-43EA-B9B2-25CBE5AD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A05294-A80E-4AFD-8436-371F4F5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527B4F-0532-4AFE-A06C-E9C2CA0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C2BD2B-2F89-4AF0-95D0-98FFBCD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A27CCF-8C35-4D6E-AB69-0066036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604BD5-4D74-4C99-B190-A6054A21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876-A589-49A0-86C0-A7E5801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D290-F3A1-471B-84A0-A12A0C1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8663E5-284A-40B8-9F77-4EFDFF5C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6D72F5-D1C9-48F6-A85D-BAF414B2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C77F82-BA6D-4FDB-BEFC-D1AD050B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453CD4-C93F-47CE-BBE8-8EDB6A9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EB48BC-D549-4943-A189-6C05006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D530A2-4C5E-484F-BF30-E529B1ED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F99E5-C328-4343-942D-99BE6A5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11F8DA-7C6A-45E9-BBFD-A06F681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470FCC-6B2A-45A2-A340-D7F96AD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D2C63C-F60E-4F42-9383-2A1842EE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4FDC-367F-4108-8386-E56D225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4C69F7-242E-4B0F-AE38-39B4FBCA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6427AD-4F85-4E6A-8581-C83FF24B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2B7AE6-E10D-4EA3-B738-37027B1A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1D1599-3FE1-4422-ACB7-C0D1E15F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37C3EB-0DD1-4D47-B3E7-D280369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5DD55B-1683-4783-97A3-73B3BCC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DE9D2B-2572-4E38-9EB0-8977438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C091A-74F7-41C0-A10A-D7EDFB80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989052-8A7B-45DF-9C2F-BF7E5DD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74686F-3AB2-445F-9E29-850884B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9D8D-35CD-418F-BACF-E4111C38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BEF7AF-A45E-466B-88B6-451CD10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46FF92-3080-4EF6-AC69-46DCCA8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0A62E4-323D-4599-8D75-FFB3322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7F833D-508C-42CA-87F4-43DAF1BB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C2F5DE-F370-4369-8CD9-214F1935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32348-1939-4926-9BA5-936FEB5C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FED71A-C76E-4CC8-941D-4161034F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2DBB1D-4292-4F13-9E36-5A1A1B8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E79C87-CBF8-4C57-A197-4586302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F16E1F-365A-4E10-80D9-231C989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0AD2-C801-4471-99C8-61CE2A3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8D99CC-6314-425F-B770-D9ABA42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8E4A4B-9A5E-4227-A2A8-9945756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5E96DA-BD68-4F58-91D0-5208E11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A189AC-05F2-4D85-B3E8-DA4D131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243A14-4A79-411F-8C10-BB21CA97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9D08CA-8869-4513-9A07-48C09894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42C8B7-2A0C-4510-9B8D-3036168A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2722CC-E35D-4F7D-8779-20894648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BF24DD-C032-401B-A71E-0B1E2047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17E4DF-2128-42B0-9C16-624408A7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F927-AB87-405E-9684-CE523C66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77096-D6BC-4BBE-A4FC-8941928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9F8187-D769-444D-BBEC-A3CA921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DF000C-16F1-48F0-A478-00829F7D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B83DBB-C9E9-4AB0-8DCF-A6C0F39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942B61-F771-4711-A909-CD1BF9C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FA8408-1241-472A-B829-18B0E91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7A93C8-D689-445D-989A-A1528BA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9F84B0-D44C-4BB6-8CDD-E38BF7FB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2E0164-A2A1-4F4C-8F39-D44C61FF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7307D5-E898-4629-96FB-5C99C608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CD51-0C06-45E2-9202-0EBBA9BE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A827C9-B836-4B5D-A203-5FF91B88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5C053C-A287-47F6-ACD8-83C4C3D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E46DC4-B73A-4683-A891-6FE7FC93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19C9B1-4F5C-4B14-AF00-5DEA1F3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51F732-4D17-4EFD-A5D9-CE00AF5C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1F6F6C-FB8E-44C9-805B-E826E01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2B9293-0814-4CAD-996B-3A1F0E0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C0563A-2F30-4A00-92E9-DE40CBB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8955EB-7CA5-46A7-8720-99047B44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1A762-1CF9-4447-ABDB-B099D0D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C3E0-23D5-4C43-9448-6377E7A9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511684-9FF7-4DAD-BA99-D9A9EB18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AC8537-B2EE-4153-A06D-BB493036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B86678-43B7-4DC6-836F-08B9A5B0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B4DDDB-A08B-4E28-A839-8257B4D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929F9F-0DC1-4FB4-BC0A-848674D1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65A113-CC09-4FB7-9A4A-3AA23117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152A61-E680-4014-A76E-9936C36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F8A4FB-4BA3-4873-BB6E-9ABBBC2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807A76-56F1-4176-BAA7-0B1980A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6644C8-C1E3-4AC7-B66A-1B6C6609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9DA35-E5AB-41F0-85F6-01297252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57F174-6146-4EE2-860B-684603E3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11EFC3-065F-4091-A15F-D25C4C12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6E1E7A-136D-4D78-9EA5-90A2191D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A5BB-E6C2-410E-92DF-ED027708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DC10-F88A-42BF-BC4D-660D3F03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087-2E51-42DC-BADE-9399B412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D5D6-FFC5-45E9-9448-80D3267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72FA-897C-45C2-9B30-930B2F03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3C7C-03F9-40C4-BBC5-F46E5378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F48A-A68D-4AB9-9803-C010829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0C2B-BA1C-4B96-9112-F65308F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FEDA-6F27-4A95-9680-D1593D6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7286-236C-4CE7-BEC1-AFDAFC19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4226-270A-4D06-9DBC-AC1E563B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77A5-BDC2-4F83-90C3-D6F85EAB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792A-D487-4425-8570-82AA7F4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420-A792-4CC7-A0DB-38701AD2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45046-CB10-4356-8985-5EAA77C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A27E9-8505-4DD7-A887-144E19E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357F-EB82-4DDA-8B63-A60E74D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07CA-1E15-4EA9-A1F6-162BC558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F25C-0943-47EA-A3F8-D287291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1BDF-FFE7-4315-BD5C-73C2531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92FA1-9604-4DD1-9EBB-581045F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8A56-98E2-4AC9-AFC9-CA42D3C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425B6-294A-4903-B275-B8FC98DB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5FEF-9357-4C00-90F5-4DDFF1B9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0DF-E8D8-4010-9B1E-782D84D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8F29A-24B7-4856-A525-027133B9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BEFF-7634-42D9-9263-FD332A26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9E72-B2D2-4826-B0C7-68827C9E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1803-E8EF-4CF3-84F5-4B10C934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8B291-A492-4483-9DC1-960339B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2927-895C-4606-9E32-1A8A476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6A1A-54CC-4CF0-9119-7BDE893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637A-74E2-44E0-96A6-7E58FA3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2000-B1D7-4868-A5AD-AE3E1D5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68D51-5358-4CBB-9E5C-5D61F6F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323-B4D3-4901-B821-DA4EF400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3B78-3876-4FB4-9106-19C07BB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BD9C-AFD2-4B43-A2BE-B6FFBDFE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6866-2527-491B-8249-EB31207C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D801C-2879-4DD6-9278-7C2E432B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6D24-17EC-488A-937A-32CEC90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7367-C965-4CD8-BFCF-84C846F6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7389-F5BE-43F5-86BB-669D31A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AFA0-8FEF-49D1-8BCC-FEB0733C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2976-0D99-4309-90D3-DF2DB7BB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2BF6-196F-4834-A69D-AE68A30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FBC-4FD8-4755-BF80-9B2B424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FB4F-280B-4094-A1B1-E4800FE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A88A-A626-4E9D-B56F-43A9C3E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6D17E-BDE3-48FC-8CB5-8C0253D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E4C8B-26DA-4C5B-9EBA-DDF48CEE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505A-CDF2-4D63-B2B3-F1B9CFC8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CAB1F-9A4C-4DA4-8222-3D1C9F17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31FA9-FA36-4F97-8001-5F628C6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BC69-C04A-4823-8C0E-38218B63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9C93-ABA3-4C0A-B867-534D910B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C3201-F5E7-456D-B63D-37E20C0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6DF-85F1-4A67-B6A2-EE6903F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B290-AF06-4378-BF83-9D13513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79510-060A-4CD9-A2CC-30FEDF5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AE61-A779-413A-B4EC-23BC2AE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89D6A-03C0-4752-9A60-7AC11BA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0D783-01F1-4FE0-B9A3-2335D81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5B08B-1F99-4F88-84AA-F749B518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58076-23A2-4ADF-A1A9-4E413A33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06562-3F77-46E0-BE42-9FF14D07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05446-872D-4B35-AD11-D3C79669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35C2C-E8F4-4194-A122-C728C6D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B5D-7AF8-4D84-9847-0BB3BE3F4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6452-3961-4131-B7B4-ABA2E97A8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490E-BDB6-4815-A04D-8C3A4B0C4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407-309E-40C2-8670-E7BB6C21F8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7A95-11DD-4C06-B3A1-1A80B09A46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B38-A81C-4A99-8DA2-362D124309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D79A-4609-47D2-A636-1A794EAB6B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50F-2BB6-455C-B583-84912CD42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091E-8619-402C-931C-22B2816536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705E-EFED-450D-B84A-AE4108F6C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49C-08F8-480D-94DA-94ECE5B07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C9CB-CE8E-418D-8289-A0A6A49AE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781-862F-455B-B915-A31576310F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A0A9-4841-489C-8F07-B6FA94415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1E2-0E3F-4CB3-84CE-AF2130310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A26B-A1DF-4471-8960-01086BC57F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F9A-8011-4160-9325-FB11217F9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3C5-CE25-4F16-8E5B-C646094258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80DB-6A47-44B8-B3AA-AD75A1164C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BBDA-38B5-4E1B-AA43-A6349288E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A462-8C85-4B25-8682-F8B4272C2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9F0C-36C8-411D-98EA-7F4D198FB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4D2-FAD9-4C9B-AB17-368F25388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3622-A7ED-498C-BB88-C1DB9B80E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403-1B5A-4B52-A8CE-460966D89B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BC2-3D5C-4B93-AACB-679D83122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E7E-19ED-47FE-9C63-E6D7BDF09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B0E5-8D3F-4B01-A9F2-ECC810C79D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C8BC-11EF-462E-92B5-0C71238D9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2C75-4174-431E-9062-7355BCE77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02E7-5903-46F4-962A-5D4B85552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72AD-6971-434F-8248-D2A573126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1CD-9DD8-4D7B-BB06-854903964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E2C0-A050-4219-B384-EFD6E90E38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B9C-B5A5-4D8D-9D05-0F3F6EC47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EB38-6550-466B-9D6B-10537994A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3A2-6F02-4B0E-98F1-356B2BFA3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CEE0-977D-4780-B0DA-D9E45B862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FF5-0248-4690-8865-808A36A21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4C9-BBFB-46DF-9CFC-9BFEACECFC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6578-F829-4C91-871A-D846DB94D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FE28-D87C-4488-AE06-79E816C8E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FF5-3EBB-4D34-B721-C195EF08B4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1F13-E9CF-42D3-8105-EB74DD3062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D8C-2D93-4280-A442-E45A37EE0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4E6-877E-4745-AE13-B17FCA6750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D96A-904B-47C1-9803-AD9F908E1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E8C-F02E-4457-9104-6B0371BB56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1B2D-58AF-42F3-B748-D27725F342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E731-8369-4F45-856F-59D30CF9DE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687760" y="1057320"/>
            <a:ext cx="2981160" cy="3999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3047760" cy="354348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4016520" y="58165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图片 132097" descr=""/>
          <p:cNvPicPr/>
          <p:nvPr/>
        </p:nvPicPr>
        <p:blipFill>
          <a:blip r:embed="rId1"/>
          <a:stretch/>
        </p:blipFill>
        <p:spPr>
          <a:xfrm>
            <a:off x="365040" y="903240"/>
            <a:ext cx="6305760" cy="225756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132098" descr=""/>
          <p:cNvPicPr/>
          <p:nvPr/>
        </p:nvPicPr>
        <p:blipFill>
          <a:blip r:embed="rId2"/>
          <a:stretch/>
        </p:blipFill>
        <p:spPr>
          <a:xfrm>
            <a:off x="923760" y="4192560"/>
            <a:ext cx="5924880" cy="218124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2099"/>
          <p:cNvSpPr/>
          <p:nvPr/>
        </p:nvSpPr>
        <p:spPr>
          <a:xfrm>
            <a:off x="944640" y="2116080"/>
            <a:ext cx="609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2100"/>
          <p:cNvSpPr/>
          <p:nvPr/>
        </p:nvSpPr>
        <p:spPr>
          <a:xfrm>
            <a:off x="863640" y="2681280"/>
            <a:ext cx="609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2101"/>
          <p:cNvSpPr/>
          <p:nvPr/>
        </p:nvSpPr>
        <p:spPr>
          <a:xfrm>
            <a:off x="852480" y="4778280"/>
            <a:ext cx="6093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2102"/>
          <p:cNvSpPr/>
          <p:nvPr/>
        </p:nvSpPr>
        <p:spPr>
          <a:xfrm>
            <a:off x="779400" y="5343480"/>
            <a:ext cx="609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2103"/>
          <p:cNvSpPr/>
          <p:nvPr/>
        </p:nvSpPr>
        <p:spPr>
          <a:xfrm>
            <a:off x="779400" y="5908680"/>
            <a:ext cx="609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1073" descr=""/>
          <p:cNvPicPr/>
          <p:nvPr/>
        </p:nvPicPr>
        <p:blipFill>
          <a:blip r:embed="rId1"/>
          <a:stretch/>
        </p:blipFill>
        <p:spPr>
          <a:xfrm>
            <a:off x="744480" y="922320"/>
            <a:ext cx="6029280" cy="328608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31074"/>
          <p:cNvSpPr/>
          <p:nvPr/>
        </p:nvSpPr>
        <p:spPr>
          <a:xfrm>
            <a:off x="749160" y="1881360"/>
            <a:ext cx="6042240" cy="63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1075"/>
          <p:cNvSpPr/>
          <p:nvPr/>
        </p:nvSpPr>
        <p:spPr>
          <a:xfrm>
            <a:off x="749160" y="2846520"/>
            <a:ext cx="6042240" cy="63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1076"/>
          <p:cNvSpPr/>
          <p:nvPr/>
        </p:nvSpPr>
        <p:spPr>
          <a:xfrm>
            <a:off x="770040" y="3689280"/>
            <a:ext cx="4707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图片 130049" descr=""/>
          <p:cNvPicPr/>
          <p:nvPr/>
        </p:nvPicPr>
        <p:blipFill>
          <a:blip r:embed="rId1"/>
          <a:stretch/>
        </p:blipFill>
        <p:spPr>
          <a:xfrm>
            <a:off x="228600" y="101448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29025" descr=""/>
          <p:cNvPicPr/>
          <p:nvPr/>
        </p:nvPicPr>
        <p:blipFill>
          <a:blip r:embed="rId1"/>
          <a:stretch/>
        </p:blipFill>
        <p:spPr>
          <a:xfrm>
            <a:off x="604800" y="946080"/>
            <a:ext cx="7705800" cy="5524560"/>
          </a:xfrm>
          <a:prstGeom prst="rect">
            <a:avLst/>
          </a:prstGeom>
          <a:ln w="0">
            <a:noFill/>
          </a:ln>
        </p:spPr>
      </p:pic>
      <p:sp>
        <p:nvSpPr>
          <p:cNvPr id="1390" name="矩形 129026"/>
          <p:cNvSpPr/>
          <p:nvPr/>
        </p:nvSpPr>
        <p:spPr>
          <a:xfrm>
            <a:off x="728640" y="996840"/>
            <a:ext cx="404820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29027"/>
          <p:cNvSpPr/>
          <p:nvPr/>
        </p:nvSpPr>
        <p:spPr>
          <a:xfrm>
            <a:off x="739800" y="1531800"/>
            <a:ext cx="425304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29028"/>
          <p:cNvSpPr/>
          <p:nvPr/>
        </p:nvSpPr>
        <p:spPr>
          <a:xfrm>
            <a:off x="677880" y="2095560"/>
            <a:ext cx="425304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29029"/>
          <p:cNvSpPr/>
          <p:nvPr/>
        </p:nvSpPr>
        <p:spPr>
          <a:xfrm>
            <a:off x="677880" y="2690640"/>
            <a:ext cx="4253040" cy="4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29030"/>
          <p:cNvSpPr/>
          <p:nvPr/>
        </p:nvSpPr>
        <p:spPr>
          <a:xfrm>
            <a:off x="585720" y="3297240"/>
            <a:ext cx="425304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9031"/>
          <p:cNvSpPr/>
          <p:nvPr/>
        </p:nvSpPr>
        <p:spPr>
          <a:xfrm>
            <a:off x="514440" y="3882960"/>
            <a:ext cx="42526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9032"/>
          <p:cNvSpPr/>
          <p:nvPr/>
        </p:nvSpPr>
        <p:spPr>
          <a:xfrm>
            <a:off x="514440" y="4427640"/>
            <a:ext cx="42526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33"/>
          <p:cNvSpPr/>
          <p:nvPr/>
        </p:nvSpPr>
        <p:spPr>
          <a:xfrm>
            <a:off x="514440" y="5075280"/>
            <a:ext cx="344160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34"/>
          <p:cNvSpPr/>
          <p:nvPr/>
        </p:nvSpPr>
        <p:spPr>
          <a:xfrm>
            <a:off x="442800" y="5999040"/>
            <a:ext cx="425304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28001" descr=""/>
          <p:cNvPicPr/>
          <p:nvPr/>
        </p:nvPicPr>
        <p:blipFill>
          <a:blip r:embed="rId1"/>
          <a:stretch/>
        </p:blipFill>
        <p:spPr>
          <a:xfrm>
            <a:off x="333360" y="865080"/>
            <a:ext cx="8172360" cy="5381640"/>
          </a:xfrm>
          <a:prstGeom prst="rect">
            <a:avLst/>
          </a:prstGeom>
          <a:ln w="0">
            <a:noFill/>
          </a:ln>
        </p:spPr>
      </p:pic>
      <p:sp>
        <p:nvSpPr>
          <p:cNvPr id="1400" name="矩形 128002"/>
          <p:cNvSpPr/>
          <p:nvPr/>
        </p:nvSpPr>
        <p:spPr>
          <a:xfrm>
            <a:off x="882720" y="3340080"/>
            <a:ext cx="77374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8003"/>
          <p:cNvSpPr/>
          <p:nvPr/>
        </p:nvSpPr>
        <p:spPr>
          <a:xfrm>
            <a:off x="851040" y="3967200"/>
            <a:ext cx="75517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8004"/>
          <p:cNvSpPr/>
          <p:nvPr/>
        </p:nvSpPr>
        <p:spPr>
          <a:xfrm>
            <a:off x="790560" y="4840200"/>
            <a:ext cx="77374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8005"/>
          <p:cNvSpPr/>
          <p:nvPr/>
        </p:nvSpPr>
        <p:spPr>
          <a:xfrm>
            <a:off x="839880" y="5478480"/>
            <a:ext cx="75517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800600" cy="104796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140290" descr=""/>
          <p:cNvPicPr/>
          <p:nvPr/>
        </p:nvPicPr>
        <p:blipFill>
          <a:blip r:embed="rId2"/>
          <a:stretch/>
        </p:blipFill>
        <p:spPr>
          <a:xfrm>
            <a:off x="239760" y="2025720"/>
            <a:ext cx="8486640" cy="331452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1"/>
          <p:cNvSpPr/>
          <p:nvPr/>
        </p:nvSpPr>
        <p:spPr>
          <a:xfrm>
            <a:off x="4878360" y="2033640"/>
            <a:ext cx="1131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2"/>
          <p:cNvSpPr/>
          <p:nvPr/>
        </p:nvSpPr>
        <p:spPr>
          <a:xfrm>
            <a:off x="3778200" y="2413080"/>
            <a:ext cx="7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3"/>
          <p:cNvSpPr/>
          <p:nvPr/>
        </p:nvSpPr>
        <p:spPr>
          <a:xfrm>
            <a:off x="3809880" y="2793960"/>
            <a:ext cx="112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4"/>
          <p:cNvSpPr/>
          <p:nvPr/>
        </p:nvSpPr>
        <p:spPr>
          <a:xfrm>
            <a:off x="6194520" y="2793960"/>
            <a:ext cx="167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5"/>
          <p:cNvSpPr/>
          <p:nvPr/>
        </p:nvSpPr>
        <p:spPr>
          <a:xfrm>
            <a:off x="4519440" y="3317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6"/>
          <p:cNvSpPr/>
          <p:nvPr/>
        </p:nvSpPr>
        <p:spPr>
          <a:xfrm>
            <a:off x="7993080" y="3205080"/>
            <a:ext cx="37152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7"/>
          <p:cNvSpPr/>
          <p:nvPr/>
        </p:nvSpPr>
        <p:spPr>
          <a:xfrm>
            <a:off x="4983120" y="3830760"/>
            <a:ext cx="1778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8"/>
          <p:cNvSpPr/>
          <p:nvPr/>
        </p:nvSpPr>
        <p:spPr>
          <a:xfrm>
            <a:off x="7839000" y="3830760"/>
            <a:ext cx="760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9"/>
          <p:cNvSpPr/>
          <p:nvPr/>
        </p:nvSpPr>
        <p:spPr>
          <a:xfrm>
            <a:off x="2577960" y="4991040"/>
            <a:ext cx="379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图片 139265" descr=""/>
          <p:cNvPicPr/>
          <p:nvPr/>
        </p:nvPicPr>
        <p:blipFill>
          <a:blip r:embed="rId1"/>
          <a:stretch/>
        </p:blipFill>
        <p:spPr>
          <a:xfrm>
            <a:off x="324000" y="947880"/>
            <a:ext cx="8496000" cy="4733640"/>
          </a:xfrm>
          <a:prstGeom prst="rect">
            <a:avLst/>
          </a:prstGeom>
          <a:ln w="0">
            <a:noFill/>
          </a:ln>
        </p:spPr>
      </p:pic>
      <p:sp>
        <p:nvSpPr>
          <p:cNvPr id="1346" name="矩形 139266"/>
          <p:cNvSpPr/>
          <p:nvPr/>
        </p:nvSpPr>
        <p:spPr>
          <a:xfrm>
            <a:off x="8291520" y="1727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67"/>
          <p:cNvSpPr/>
          <p:nvPr/>
        </p:nvSpPr>
        <p:spPr>
          <a:xfrm>
            <a:off x="8271000" y="3556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8"/>
          <p:cNvSpPr/>
          <p:nvPr/>
        </p:nvSpPr>
        <p:spPr>
          <a:xfrm>
            <a:off x="8231040" y="48402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8241" descr=""/>
          <p:cNvPicPr/>
          <p:nvPr/>
        </p:nvPicPr>
        <p:blipFill>
          <a:blip r:embed="rId1"/>
          <a:stretch/>
        </p:blipFill>
        <p:spPr>
          <a:xfrm>
            <a:off x="351000" y="992160"/>
            <a:ext cx="8543880" cy="301932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8242"/>
          <p:cNvSpPr/>
          <p:nvPr/>
        </p:nvSpPr>
        <p:spPr>
          <a:xfrm>
            <a:off x="6862680" y="1684440"/>
            <a:ext cx="1162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3"/>
          <p:cNvSpPr/>
          <p:nvPr/>
        </p:nvSpPr>
        <p:spPr>
          <a:xfrm>
            <a:off x="3997440" y="2587680"/>
            <a:ext cx="977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4"/>
          <p:cNvSpPr/>
          <p:nvPr/>
        </p:nvSpPr>
        <p:spPr>
          <a:xfrm>
            <a:off x="7861320" y="2597040"/>
            <a:ext cx="812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5"/>
          <p:cNvSpPr/>
          <p:nvPr/>
        </p:nvSpPr>
        <p:spPr>
          <a:xfrm>
            <a:off x="1407960" y="3027240"/>
            <a:ext cx="8017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6"/>
          <p:cNvSpPr/>
          <p:nvPr/>
        </p:nvSpPr>
        <p:spPr>
          <a:xfrm>
            <a:off x="6019920" y="3638520"/>
            <a:ext cx="441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7217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734080" cy="299088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7218"/>
          <p:cNvSpPr/>
          <p:nvPr/>
        </p:nvSpPr>
        <p:spPr>
          <a:xfrm>
            <a:off x="604800" y="1676520"/>
            <a:ext cx="5106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19"/>
          <p:cNvSpPr/>
          <p:nvPr/>
        </p:nvSpPr>
        <p:spPr>
          <a:xfrm>
            <a:off x="584280" y="2724120"/>
            <a:ext cx="5106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0"/>
          <p:cNvSpPr/>
          <p:nvPr/>
        </p:nvSpPr>
        <p:spPr>
          <a:xfrm>
            <a:off x="604800" y="3463920"/>
            <a:ext cx="5106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图片 136193" descr=""/>
          <p:cNvPicPr/>
          <p:nvPr/>
        </p:nvPicPr>
        <p:blipFill>
          <a:blip r:embed="rId1"/>
          <a:stretch/>
        </p:blipFill>
        <p:spPr>
          <a:xfrm>
            <a:off x="236520" y="819000"/>
            <a:ext cx="8163000" cy="5220000"/>
          </a:xfrm>
          <a:prstGeom prst="rect">
            <a:avLst/>
          </a:prstGeom>
          <a:ln w="0">
            <a:noFill/>
          </a:ln>
        </p:spPr>
      </p:pic>
      <p:sp>
        <p:nvSpPr>
          <p:cNvPr id="1360" name="矩形 136194"/>
          <p:cNvSpPr/>
          <p:nvPr/>
        </p:nvSpPr>
        <p:spPr>
          <a:xfrm>
            <a:off x="7684920" y="2035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5170" descr=""/>
          <p:cNvPicPr/>
          <p:nvPr/>
        </p:nvPicPr>
        <p:blipFill>
          <a:blip r:embed="rId1"/>
          <a:stretch/>
        </p:blipFill>
        <p:spPr>
          <a:xfrm>
            <a:off x="166680" y="1009800"/>
            <a:ext cx="8201160" cy="468612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5171"/>
          <p:cNvSpPr/>
          <p:nvPr/>
        </p:nvSpPr>
        <p:spPr>
          <a:xfrm>
            <a:off x="7612200" y="1603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5172"/>
          <p:cNvSpPr/>
          <p:nvPr/>
        </p:nvSpPr>
        <p:spPr>
          <a:xfrm>
            <a:off x="7581960" y="2786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4145" descr=""/>
          <p:cNvPicPr/>
          <p:nvPr/>
        </p:nvPicPr>
        <p:blipFill>
          <a:blip r:embed="rId1"/>
          <a:stretch/>
        </p:blipFill>
        <p:spPr>
          <a:xfrm>
            <a:off x="250920" y="1008000"/>
            <a:ext cx="8210520" cy="265752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134146" descr=""/>
          <p:cNvPicPr/>
          <p:nvPr/>
        </p:nvPicPr>
        <p:blipFill>
          <a:blip r:embed="rId2"/>
          <a:stretch/>
        </p:blipFill>
        <p:spPr>
          <a:xfrm>
            <a:off x="293760" y="3679920"/>
            <a:ext cx="8124840" cy="165708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4147"/>
          <p:cNvSpPr/>
          <p:nvPr/>
        </p:nvSpPr>
        <p:spPr>
          <a:xfrm>
            <a:off x="6688080" y="3184560"/>
            <a:ext cx="1017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3121" descr=""/>
          <p:cNvPicPr/>
          <p:nvPr/>
        </p:nvPicPr>
        <p:blipFill>
          <a:blip r:embed="rId1"/>
          <a:stretch/>
        </p:blipFill>
        <p:spPr>
          <a:xfrm>
            <a:off x="1033560" y="852480"/>
            <a:ext cx="5248080" cy="583884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3122"/>
          <p:cNvSpPr/>
          <p:nvPr/>
        </p:nvSpPr>
        <p:spPr>
          <a:xfrm>
            <a:off x="1038240" y="833400"/>
            <a:ext cx="57848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3123"/>
          <p:cNvSpPr/>
          <p:nvPr/>
        </p:nvSpPr>
        <p:spPr>
          <a:xfrm>
            <a:off x="966960" y="1398600"/>
            <a:ext cx="57848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3124"/>
          <p:cNvSpPr/>
          <p:nvPr/>
        </p:nvSpPr>
        <p:spPr>
          <a:xfrm>
            <a:off x="966960" y="1974960"/>
            <a:ext cx="5784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3125"/>
          <p:cNvSpPr/>
          <p:nvPr/>
        </p:nvSpPr>
        <p:spPr>
          <a:xfrm>
            <a:off x="987480" y="2540160"/>
            <a:ext cx="5784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6"/>
          <p:cNvSpPr/>
          <p:nvPr/>
        </p:nvSpPr>
        <p:spPr>
          <a:xfrm>
            <a:off x="1049400" y="3125880"/>
            <a:ext cx="5784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3127"/>
          <p:cNvSpPr/>
          <p:nvPr/>
        </p:nvSpPr>
        <p:spPr>
          <a:xfrm>
            <a:off x="1101600" y="3772080"/>
            <a:ext cx="3791160" cy="73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3128"/>
          <p:cNvSpPr/>
          <p:nvPr/>
        </p:nvSpPr>
        <p:spPr>
          <a:xfrm>
            <a:off x="844560" y="4727520"/>
            <a:ext cx="379080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3129"/>
          <p:cNvSpPr/>
          <p:nvPr/>
        </p:nvSpPr>
        <p:spPr>
          <a:xfrm>
            <a:off x="843120" y="5653080"/>
            <a:ext cx="57848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3130"/>
          <p:cNvSpPr/>
          <p:nvPr/>
        </p:nvSpPr>
        <p:spPr>
          <a:xfrm>
            <a:off x="843120" y="6197760"/>
            <a:ext cx="5784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17:39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